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0E1-B3B0-4A9F-A85F-A24BC358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351F-9753-4BFB-9D05-875043FC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CBFD-095F-4E36-8FBB-61B3B005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87C-5CDF-484B-8701-399D4A29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7799-E882-4CB4-A220-EC2DF788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956C-E14C-4DED-8602-D10979C1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21F-C5FF-4E83-8BC0-A96C32A7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FDA-4408-4EB5-B936-F6DA4073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54F0-468F-4D0A-80AE-2431D1C5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E6F-1097-4F8D-983C-3630BFF4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9F6-F05C-410C-9BDC-1C97FB8C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415A-0AA4-4862-83C5-775571A0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94D9-F3BF-4F86-A83C-6BEFA845F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53 Ó, Kriste, v toľkom žial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Ó, Kriste, v toľkom ži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n plný, bole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ak hanbou sa mi kal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 chveje v úzkost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mojou vinou pil s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trpký kalich múk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 som dar večnej spás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el prijať z tvojich rú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m ukryť mám sa v bô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stíšiť srdca sto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ina v duši pá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bolestný tvoj sk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uj vrúcnu prosbu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meň žitia môjho be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voje zľutova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pre mňa spásy bre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ov nemám, hlas mi viaz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it lásky nestačí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prejav toľkej priaz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ím sa ti odvďačí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tvojím byť, ó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 slabej viere vzl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vojej skry ma dl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prídeš súdiť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mojej viere skal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zúri prudký b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záštitou mi stál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íš búrny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neraz ešte tiesn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desí smrti tieň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 v tebe, večnej Piesn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iem slávny spásy deň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36:17Z</dcterms:modified>
  <cp:revision>31</cp:revision>
  <dc:subject/>
  <dc:title>Je veľký náš Pán, on slávy je Kráľ Nech do všetkých strán  spev vrúcnych znie chvál.</dc:title>
</cp:coreProperties>
</file>